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5A2-78D1-4A5D-BF1B-66491A00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A43-066A-44D2-ACD7-D38D368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0BF-BC4C-4E49-BAFD-F46F27F1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CA5-B49F-4411-83B2-4CD719D5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6F9-3945-4B38-86AC-CFF7BDB2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CCC-C89C-4483-AACB-24FB765D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7A2-CB35-4FF1-ACDB-E9047B91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8F2-4E64-422F-A670-958B07B5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414-4FB4-4539-AE23-F9364C84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B20-B0FC-4348-9B62-6D9107C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CC4-895F-4B00-A62C-E3CD274A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0F25-6D43-4FB1-9093-F204D04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35720" y="4797360"/>
            <a:ext cx="1197000" cy="129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77A9-C781-404A-8118-058EF789724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27280" y="979560"/>
            <a:ext cx="762912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ثانوية الكند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2592360" cy="204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58080" y="532116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Arial"/>
                <a:cs typeface="Arial"/>
              </a:rPr>
              <a:t>الطريق الرئيسي جانب فندق الشل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Arial"/>
                <a:cs typeface="Arial"/>
              </a:rPr>
              <a:t>تأسست في 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  <a:ea typeface="Arial"/>
              </a:rPr>
              <a:t>19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حول ثانوية الكند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لا تزال المدرسة في هذا الموقع منذ عام </a:t>
            </a: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19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نقدم العديد من التسهي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استخدام أحدث التقني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ملعب للتنس وصالة لياقة بدنية مجهزة بأحدث الوس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</a:rPr>
              <a:t>تعليم المبادئ الأساسية لاستخدام الح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656320" y="3137040"/>
            <a:ext cx="1795320" cy="1801800"/>
            <a:chOff x="5656320" y="3137040"/>
            <a:chExt cx="1795320" cy="18018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656320" y="3137040"/>
              <a:ext cx="1795320" cy="18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 txBox="1"/>
            <p:nvPr/>
          </p:nvSpPr>
          <p:spPr>
            <a:xfrm>
              <a:off x="5656320" y="3137040"/>
              <a:ext cx="1795320" cy="18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812000" y="60930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مسو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أهداف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زويد الطلاب بأعلى مستويات الثقا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وفير بيئة تعليم عالية المستو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شجيع الطلاب لتطوير مهاراتهم لتساعدهم في مجالات عمل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نتائج الامتح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جهاز التدريس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لاحظات ها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بما أن مدرستنا صغيرة،  يمكننا الإبقاء على عدد قليل من الطلاب ضمن كل صف وبالتالي الاهتمام بكل طالب على ح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نقوم برحلات شهرية إلى أحد المعالم الأث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نستخدم أحدث الأساليب التقن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عرض الشرائ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سؤال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إجا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37:04Z</dcterms:created>
  <dc:creator>Roger</dc:creator>
  <dc:description/>
  <dc:language>en-US</dc:language>
  <cp:lastModifiedBy>16:47</cp:lastModifiedBy>
  <dcterms:modified xsi:type="dcterms:W3CDTF">2005-01-27T11:43:08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